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A6C-2863-4A1F-8381-A1E6DE54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C30-00BD-4230-A04C-81077617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2CE-5184-4B03-A595-EA4E0BF6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765-C17E-4855-B498-A9590354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FD3-77E5-4274-8F2B-243CF3DA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4A8-132A-4B69-A3AD-D8A35102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4D2-ED4F-4AFD-B982-E224450F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8C7-D00A-4989-ADD0-854A91DE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48D-E43C-4B3E-B16B-7316E9FF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321-EA60-49B6-AC91-26E86F75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466-7B1B-4686-89CD-66C39F18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544-CC48-42E7-8643-63F1EB98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09FF-7194-4CBE-9824-0763DF03C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A: Unit 3 Problem Sol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haracteristics of data &amp;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Information Processing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Characteristics of aud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Structure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Decision-making in organis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sition: Collecting data to sol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Data, direct observation, surveys, sampling, interviews, measurement &amp;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data, published material, book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code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uch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ra, sensor, voice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 or electro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ableness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 down list boxes, text check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oftware to transform data into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, querying, sorting, drawing, mixing, charting, summar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of software tools used in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for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s for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software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e of use and efficiency &amp;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St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’s, DV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p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ie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of stored data for updating or manipul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retrieval requires using filenames and directories that are meaning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 dev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n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eakers, proj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of information to people who requir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application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confer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x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sal or Arch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sing of unwanted fil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ring files that are no longer active but are still requi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ctive files are transferred (archived) to an auxiliary storag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Audi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is used to: Persuade, inform, educate or enter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eets needs of audiences which diff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&amp;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 level &amp;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to acquire data &amp; transform into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efficie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ecreasing data-entry time by using a flatbed scanner (hard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the accuracy of data by using improved electronic data-validation techniques (software) and/or manual data-validation techniques (proced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ing the effort required to manipulate data by using a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ed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-making in organis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Management, strategic, long term goals, highly summaris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management, tactical, problems affecting running of org; summaris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management, day-day operational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workers’, day-day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ffec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file access procedures and encryption software to increase the security of records (procedures and softw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new equipment to improve the readability and aesthetics of the information (hardware and softw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system personnel to provide information of a high quality (people)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ation System Components,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nel or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processor and mother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 &amp;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, (connect system unit to peripheral de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pherals and secondary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Components con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, 4 main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or System software, eg Windows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software, eg. Nor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oft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 the shelf Vs purpose desig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oftware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System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inimise time &amp; effort required to carry out IP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accurate, appropriate &amp; complete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V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urces of data: Primary Vs Seco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Valuable or 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ui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imel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reedom from bias, Key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stics of infor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i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rocessing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word: ASIVCMSO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22:14:30Z</dcterms:created>
  <dc:creator>KB</dc:creator>
  <dc:description/>
  <dc:language>en-US</dc:language>
  <cp:lastModifiedBy>Kelvin Baird</cp:lastModifiedBy>
  <dcterms:modified xsi:type="dcterms:W3CDTF">2006-12-28T22:39:34Z</dcterms:modified>
  <cp:revision>16</cp:revision>
  <dc:subject/>
  <dc:title>Criterion 1: Knowledge of the types and characteristics of information systems and networks </dc:title>
</cp:coreProperties>
</file>